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BBE-5701-410C-AE66-41C39EFB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48E-9C7E-4995-BD89-E2663D1A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1D6-6FCA-4D89-A806-09CD62C6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BC9-AFDE-4BCF-A53A-66C60E0E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20F0-08DB-47EE-96F6-CF810B7A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A4DC-E9D5-4218-8B21-8F56880F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0E71-FB73-4AE8-A13C-883F0234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82B5-D879-4E2C-AD84-B64D43D7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002E-6CE7-41D6-B350-A6AEB7ED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EA2E-18C3-42EA-959C-1900A243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6329-89EC-4402-8009-6E8E81B3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FCE-367E-4858-8DCD-679F3952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AE93-26DD-43D1-8CC4-1EB7336F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957D-1079-4542-978E-D06ADE1C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E79F-3F69-4820-84CF-20B7BE0D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822A-1FB3-4086-A1B1-2F089D52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6564-25A2-465E-BAA6-C2774FFF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4E2-A7CD-4E67-80F7-49775A7E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D40-575E-46AC-BC3D-29D57727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24C-C70C-409B-8CAE-9864E47D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C49-835B-4D68-950F-03301CAB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CCB-2B56-47CE-A3B6-B89E3535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276-8ABD-4980-938D-3D63474D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CFB-A59A-400D-81EA-1366D76A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7AB9-97BF-44C2-BA1E-31D7F16D4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11D1-DE8E-4C48-AB86-40787A42D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’est à toi – Level 2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itre 9 – Deuxième Ét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journée incroy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8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Tous les jours, je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se promener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48840" y="4343400"/>
            <a:ext cx="39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e me promena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9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Hier soir, je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boire) un chocolat chau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71080" y="434340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i b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10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Tout à coup, il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mourir) de rire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997360" y="449568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 est mor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TOTA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ints: ?????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Direc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ettez le verbe au temps correct</a:t>
            </a: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: Imparfait ou passé compos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ttention, aux mots c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2 points par phrase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i vous avez le temps correct = 1 po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i votre verbe est conjugué correctement = 1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1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Tout à coup, je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voir un accident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343680" y="4446720"/>
            <a:ext cx="17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 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2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D’habitude, je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sortir le samedi soir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737160" y="4800600"/>
            <a:ext cx="255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 sort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3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La semaine dernière, nous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(prendre) le train pour NY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64680" y="457848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us avons pr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4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Souvent, on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s’amuser) à la plag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17320" y="4648320"/>
            <a:ext cx="30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 s’amusa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5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8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Lundi, ils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arriver) en retard à l’éco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92920" y="44956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s sont arriv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6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69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Soudain, nous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tomber) dans les escalie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591640" y="4114800"/>
            <a:ext cx="50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us sommes tomb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7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De temps en temps, elle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faire) ses devoi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583080" y="480708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e faisa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2-05-03T22:20:49Z</dcterms:modified>
  <cp:revision>90</cp:revision>
  <dc:subject/>
  <dc:title>Allez, viens! – Level 2</dc:title>
</cp:coreProperties>
</file>